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9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11.jpeg" ContentType="image/jpeg"/>
  <Override PartName="/ppt/media/image4.jpeg" ContentType="image/jpeg"/>
  <Override PartName="/ppt/media/image40.png" ContentType="image/png"/>
  <Override PartName="/ppt/media/image25.png" ContentType="image/png"/>
  <Override PartName="/ppt/media/image4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DC52-C584-43E5-A113-D6F51D84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421A-DD8A-4C76-8BBC-49FDF08E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7248-DFC1-4C0F-940C-DA64356C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D39-9FEE-42E1-B2E5-B571FA41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14BA-6FE3-45D9-8D48-2F2D4381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93DD-25CE-4CDE-BE98-FE42CFB3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7EE7-BAA7-4835-9D33-82E6A891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EC4E-6CED-4998-9759-2F6A07CE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D33C-D89D-49A7-B024-626F3813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1647-5879-44A5-A1F5-BBE42710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4D17-9B02-4985-86F5-2EEA5602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353F-7AFF-4485-9E9D-7DC51B7A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5596-A071-44E5-A7A6-C7D39E0E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CF3C-E92A-4FF9-8E49-B6F1679B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6743-B2A1-4750-ABE8-941E3E75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65BD-ADA0-4D81-9E0C-8548222C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E9C5-946B-417F-BC52-C095AC74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EB4B-4CAA-41A5-BB99-10E4D4D4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28F7-D575-4A8B-8F43-66374D6E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240B-092C-45F0-81ED-282B3EE4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6BCC-4E7E-4423-BC87-0D7D5D2C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9C45-642B-4A11-9474-D6363017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FFE6-6AF1-44EF-A9EF-B63F9C1F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6F0E-7304-4332-A131-70E9D40F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0489-1DA6-4243-B0F3-E30D1E8890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4CB2-984C-47D0-AAF3-7CCAC10FA2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8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KATEDRA ZA ORTOPEDIJO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www.mf.uni-lj.si/kort/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ortoped@mf.uni-lj.si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ibljivost v kolk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unanja rot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ranja rot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bušna lega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84800" y="260280"/>
            <a:ext cx="2492640" cy="3773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708360" y="3736800"/>
            <a:ext cx="34560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 </a:t>
            </a:r>
            <a:r>
              <a:rPr b="0" lang="sl-SI" sz="4400" spc="-1" strike="noStrike">
                <a:solidFill>
                  <a:srgbClr val="ffcc00"/>
                </a:solidFill>
                <a:latin typeface="Tahoma"/>
              </a:rPr>
              <a:t>FABER</a:t>
            </a: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:  DDg kolk/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eže na hrbtu položi pacient stopalo na nasprotno kol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Bolečina v dimljah govori za kolčno patologi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itisk na koleno in nasprotno spino lahko povzroči bolečino v 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651640" y="2060640"/>
            <a:ext cx="26938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l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eritev dolžine udo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lpacija anteriornih superiornih spin ali iliakalnih krist stoje; ocena nagiba meden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eritev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bsolutne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dolžine spodnjih udov leže (od SIAS do medialnega maleol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omembnejša od relativne dolžine (od popka do medialnega maleola) je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funkcionaln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dolžina, ki je odraz vseh kontraktur in prikrajša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entgenska skenometr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olžina spodnjih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kstremite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solutna dolž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videzna dolž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kcionalna dolžina: izravnava medenice s podlaganj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59280" y="189000"/>
            <a:ext cx="2138400" cy="2989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056280" y="3068640"/>
            <a:ext cx="2838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VAJE IZ ORTOPED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KOLEN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20760" y="0"/>
            <a:ext cx="666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leno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lik skl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ži neposredno pod kož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vržen poškodb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iskusa zagotavljata maksimalno elastičnost ob maksimalni stabilnosti skle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 stabilnost so pomembne ve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Palpacija tipičnih točk na kolen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dduktorni tuberk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rh pogač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uberozitas tib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lava fib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ateralni kolateralni lig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edialna in lateralna sklepna špra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Narastišče tetiv pes anserin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erdyjev tuberkel (narastišče traktusa iliotibialis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ibljivost kole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ekurvatum (= hiperkekstenz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ks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inimalne rotacije v fleksiji (jih ne merim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ksijska kontrak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ava kontraktura (pasivn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zpad ekstenzije (aktivn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2766960" cy="1981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932360" y="2060640"/>
            <a:ext cx="3352680" cy="2400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292720" y="4437000"/>
            <a:ext cx="27669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bsegi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bseg čez pogačico (izliv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5 cm nad pogačico (reces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10 cm nad pogačico (muskulatura – atrofij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VAJE IZ ORTOPED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KOLK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gotavljanje izliva v kole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Balottement”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pate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Bolnik lež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Desno koleno je iztegnj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Z levico iztisnemo suprapatelarni rece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 prsti desnice hitro potisnemo patelo proti podlagi (femoralni trohlej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Čutimo trd dotik kosti na k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940360" y="2060640"/>
            <a:ext cx="3273480" cy="4403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s kole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620244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Biomehanična os stoje:  center glavice kolka, center kolena, center glež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dstopanje:  varus, val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Ženske imajo konstitucionalni valgus (širša medeni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troci sprva varus, nato valgus, nato normalno 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arus, valgus artro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hlapnost v frontalni ravnin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210440" cy="23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Koleno se na nateg odpira v ekstenziji (kar kaže na prizadetost prednje križne vezi) ali le v fleksiji 20-3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ahoma"/>
              </a:rPr>
              <a:t>Odpiranje na valgus nateg (X):  ohlapnost medialne kolateralne vezi (in prednje križne vez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ahoma"/>
              </a:rPr>
              <a:t>Odpiranje na varus nateg (O):  ohlapnost lateralne kolateralne vezi (in prednje križne vez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3703680"/>
            <a:ext cx="541008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omedialna nestabilnost: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sprednji križni liga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Sprednji predalčni fen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ež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ksija 9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Vlek golenice navzp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imerjava D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40388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omedialna nestabilnost: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sprednji križni liga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Lachmanov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eže na hrb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ksija 20-3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Z levico fiksiramo fem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Z desnico potegnemo golen navzp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imerjava D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292720" y="1916280"/>
            <a:ext cx="3311640" cy="2371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219640" y="4292640"/>
            <a:ext cx="346716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148360" y="1589040"/>
            <a:ext cx="3527280" cy="25257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omedialna nestabilnost:  zadnji križni liga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859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Zadnji predalčni fen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eže na hrb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ksija 8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itisk navzad – translacija tibije na femorj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odoben sprednjemu:  repozicija iz subluksac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imerjava D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ogled od strani (kontura kolen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148360" y="3821040"/>
            <a:ext cx="35272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Manipulacija v fleksiji: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menisku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McMurrayev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sti na sklepni špranj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ktiramo/ekstendiramo/rotira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Čakamo preskok (ki ga včasih tudi slišim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eskok je boleč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443640" y="260280"/>
            <a:ext cx="2244600" cy="3413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103640" y="4199040"/>
            <a:ext cx="50403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gač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Največja sezamoidna k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zboljša učinkovitost ekstenzije kole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oblem sprednje bolečnosti kolena, nestabilnosti pogač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rcRect l="0" t="0" r="2693" b="0"/>
          <a:stretch/>
        </p:blipFill>
        <p:spPr>
          <a:xfrm>
            <a:off x="5457960" y="2176560"/>
            <a:ext cx="2354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 za hondropatijo pate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Zohlerjev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Leže na hrb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Iztegnjeno kol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Blag potisk patele navzd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Kontrakcija kvadricep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Primerjava D/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Bolečin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stiranje moč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estiranje moči ekstenzije kol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estiranje moči fleksije kol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Palpacija tipičnih točk v predelu kolk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eliki trohanter (vrh, zadnji rob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zstopišče ishiadiku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ulz arterije femoralis pod ingvinalnim ligament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ali troha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pina iliaka 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cc00"/>
                </a:solidFill>
                <a:latin typeface="Tahoma"/>
              </a:rPr>
              <a:t>VAJE IZ ORTOPED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6000" spc="-1" strike="noStrike">
                <a:solidFill>
                  <a:srgbClr val="ffcc00"/>
                </a:solidFill>
                <a:latin typeface="Tahoma"/>
              </a:rPr>
              <a:t>RAM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Figure 1A"/>
          <p:cNvPicPr/>
          <p:nvPr/>
        </p:nvPicPr>
        <p:blipFill>
          <a:blip r:embed="rId2"/>
          <a:srcRect l="0" t="0" r="2742" b="0"/>
          <a:stretch/>
        </p:blipFill>
        <p:spPr>
          <a:xfrm>
            <a:off x="0" y="549360"/>
            <a:ext cx="889488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670120" y="-14054040"/>
          <a:ext cx="182520" cy="34967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aeae"/>
                    </a:solidFill>
                  </a:tcPr>
                </a:tc>
              </a:tr>
              <a:tr h="3456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0" name="" descr="{short description of image}"/>
          <p:cNvPicPr/>
          <p:nvPr/>
        </p:nvPicPr>
        <p:blipFill>
          <a:blip r:embed="rId2"/>
          <a:stretch/>
        </p:blipFill>
        <p:spPr>
          <a:xfrm>
            <a:off x="2824200" y="-14007960"/>
            <a:ext cx="38160" cy="37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Figure 1B"/>
          <p:cNvPicPr/>
          <p:nvPr/>
        </p:nvPicPr>
        <p:blipFill>
          <a:blip r:embed="rId3"/>
          <a:stretch/>
        </p:blipFill>
        <p:spPr>
          <a:xfrm>
            <a:off x="2760840" y="-13366800"/>
            <a:ext cx="3714480" cy="2200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Figure 1B"/>
          <p:cNvPicPr/>
          <p:nvPr/>
        </p:nvPicPr>
        <p:blipFill>
          <a:blip r:embed="rId4"/>
          <a:stretch/>
        </p:blipFill>
        <p:spPr>
          <a:xfrm>
            <a:off x="826920" y="2060640"/>
            <a:ext cx="7274160" cy="4308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7b9cb5"/>
                </a:solidFill>
                <a:latin typeface="Tahoma"/>
              </a:rPr>
              <a:t>Rotatorna manše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m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lenohumeralni skl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kromioklavikularni skl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kapulotorakalni st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ternoklavikularni skl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ezi med klavikulo in skapu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kapulohumeralni ritem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m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pazovanje pri gibanj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abitualna luks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capula alata” pri naslanjanju na steno (pareza n. thoracici longi ali m. serrati a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spek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trofija deltoida, supraspinat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uksacija (anteriorna, posteriorn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kromioklavikularna sindezmoliza (“klavirska tipka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2703600"/>
            <a:ext cx="5638680" cy="41544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562360" y="22824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lp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ubakromialni pros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kromioklavikularni skle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korako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33760" y="3048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Gibljivost (akt./pas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bduk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dduk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ntefleks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zunanja rot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notranja rotacija (v addukciji ali v abdukciji 90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i za subakromialno utesnitev </a:t>
            </a:r>
            <a:r>
              <a:rPr b="0" lang="sl-SI" sz="4000" spc="-1" strike="noStrike">
                <a:solidFill>
                  <a:srgbClr val="e5ffff"/>
                </a:solidFill>
                <a:latin typeface="Wingdings"/>
                <a:ea typeface="Wingdings"/>
              </a:rPr>
              <a:t></a:t>
            </a: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 bolečin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4316400" cy="32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Klasični </a:t>
            </a:r>
            <a:r>
              <a:rPr b="0" lang="sl-SI" sz="3200" spc="-1" strike="noStrike">
                <a:solidFill>
                  <a:srgbClr val="ffdb41"/>
                </a:solidFill>
                <a:latin typeface="Tahoma"/>
              </a:rPr>
              <a:t>Neerov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tes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eiskovanec sedi, zdravnik stoj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oka med abdukcijo in antefleksi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Zdravnik elevira ro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Bolečina pri 9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ntefleks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Figure 5"/>
          <p:cNvPicPr/>
          <p:nvPr/>
        </p:nvPicPr>
        <p:blipFill>
          <a:blip r:embed="rId2"/>
          <a:srcRect l="0" t="0" r="6756" b="0"/>
          <a:stretch/>
        </p:blipFill>
        <p:spPr>
          <a:xfrm>
            <a:off x="4351320" y="2276640"/>
            <a:ext cx="446868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i za subakromialno utesnitev </a:t>
            </a:r>
            <a:r>
              <a:rPr b="0" lang="sl-SI" sz="4000" spc="-1" strike="noStrike">
                <a:solidFill>
                  <a:srgbClr val="e5ffff"/>
                </a:solidFill>
                <a:latin typeface="Wingdings"/>
                <a:ea typeface="Wingdings"/>
              </a:rPr>
              <a:t></a:t>
            </a: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 bolečin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2818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awkinsova modifikacija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(testira utesnitev supraspinatusa pod CA ligamento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ntefleksija humer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Notranja rotacija humer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Figure 6"/>
          <p:cNvPicPr/>
          <p:nvPr/>
        </p:nvPicPr>
        <p:blipFill>
          <a:blip r:embed="rId2"/>
          <a:srcRect l="0" t="0" r="3580" b="0"/>
          <a:stretch/>
        </p:blipFill>
        <p:spPr>
          <a:xfrm>
            <a:off x="2124000" y="3573360"/>
            <a:ext cx="482436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Moč supraspinatu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bdukcija v rami 9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ntefleksija 3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aksimalna notranja rota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cient se upira pritisku navzdol na komolec, ki ga izvaja zdravn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bolečin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AC (akromioklavikularni) skle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nspekcija (klavirska tipka ob sindezmoliz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lp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Test horizontalne addukcije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(cross-arm te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entgenski kriteriji (Rockwoodova klasifikac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Figure 7"/>
          <p:cNvPicPr/>
          <p:nvPr/>
        </p:nvPicPr>
        <p:blipFill>
          <a:blip r:embed="rId2"/>
          <a:stretch/>
        </p:blipFill>
        <p:spPr>
          <a:xfrm>
            <a:off x="5207040" y="2552760"/>
            <a:ext cx="2921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l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gibljivost sklep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ks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abd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uk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add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uk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zunanja rot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notranja rot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Merimo leže.  Rotaciji merimo v fleksiji ali (bolje) v </a:t>
            </a: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trebušni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leg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638680" y="4038480"/>
            <a:ext cx="3124440" cy="2625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266400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iranje bicepsa brachi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512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Bolečina nad sulkus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est za tendinitis dolge kite:  </a:t>
            </a:r>
            <a:r>
              <a:rPr b="0" lang="sl-SI" sz="3200" spc="-1" strike="noStrike">
                <a:solidFill>
                  <a:srgbClr val="ffdb41"/>
                </a:solidFill>
                <a:latin typeface="Tahoma"/>
              </a:rPr>
              <a:t>Yergasonov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test:  test stabilnosti kite v sulkus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cient supinira in flektira komole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zdravnik komolec rotira navzven se upira supinacij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boleč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Figure 9"/>
          <p:cNvPicPr/>
          <p:nvPr/>
        </p:nvPicPr>
        <p:blipFill>
          <a:blip r:embed="rId2"/>
          <a:stretch/>
        </p:blipFill>
        <p:spPr>
          <a:xfrm>
            <a:off x="5108400" y="2205000"/>
            <a:ext cx="40356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iranje bicepsa brachi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db41"/>
                </a:solidFill>
                <a:latin typeface="Tahoma"/>
              </a:rPr>
              <a:t>Speedov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maneve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pogib komolca 20-3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, supinirana podleht, 6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ntefleksije, zdravnik se upira nadaljnji fleksiji rame in palpira biceps v sulkus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esti stabilnosti rame: </a:t>
            </a:r>
            <a:br>
              <a:rPr sz="4000"/>
            </a:br>
            <a:r>
              <a:rPr b="0" lang="en-US" sz="4000" spc="-1" strike="noStrike">
                <a:solidFill>
                  <a:srgbClr val="ffdb41"/>
                </a:solidFill>
                <a:latin typeface="Tahoma"/>
              </a:rPr>
              <a:t>sprednja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nestabilnos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Apprehension Test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”</a:t>
            </a:r>
            <a:br>
              <a:rPr sz="2800"/>
            </a:b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eiskovanec leži ali sedi;  roka v 9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bdukcije; zdravnik pritiska humerus naprej in navzven rotira ramo</a:t>
            </a:r>
            <a:r>
              <a:rPr b="0" lang="sl-SI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bolečina ali občutek, da bo prišlo do izpa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Sledi</a:t>
            </a: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 test repozic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" descr="Figure 8"/>
          <p:cNvPicPr/>
          <p:nvPr/>
        </p:nvPicPr>
        <p:blipFill>
          <a:blip r:embed="rId2"/>
          <a:srcRect l="0" t="0" r="2958" b="0"/>
          <a:stretch/>
        </p:blipFill>
        <p:spPr>
          <a:xfrm>
            <a:off x="4762440" y="2565360"/>
            <a:ext cx="36972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esti stabilnosti rame:</a:t>
            </a:r>
            <a:br>
              <a:rPr sz="4000"/>
            </a:br>
            <a:r>
              <a:rPr b="0" lang="en-US" sz="4000" spc="-1" strike="noStrike">
                <a:solidFill>
                  <a:srgbClr val="ffdb41"/>
                </a:solidFill>
                <a:latin typeface="Tahoma"/>
              </a:rPr>
              <a:t>zadnja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nestabilnos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cient leži ali sed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Rama 9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abdukcije in komolec 9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fleks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Zdravnik potisne humerus naza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esti stabilnosti rame:</a:t>
            </a:r>
            <a:br>
              <a:rPr sz="4000"/>
            </a:br>
            <a:r>
              <a:rPr b="0" lang="en-US" sz="4000" spc="-1" strike="noStrike">
                <a:solidFill>
                  <a:srgbClr val="ffdb41"/>
                </a:solidFill>
                <a:latin typeface="Tahoma"/>
              </a:rPr>
              <a:t>spodnja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nestabilnos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5364000" cy="37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Znak </a:t>
            </a: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sulkus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(spodnja glenohumeralna nestabilnost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Ob potegu viseče roke navzdol se lateralno in pod akromionom oblikuje utor (lahko normalno pri mladi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Figure 10"/>
          <p:cNvPicPr/>
          <p:nvPr/>
        </p:nvPicPr>
        <p:blipFill>
          <a:blip r:embed="rId2"/>
          <a:srcRect l="0" t="0" r="3858" b="0"/>
          <a:stretch/>
        </p:blipFill>
        <p:spPr>
          <a:xfrm>
            <a:off x="6012000" y="2133720"/>
            <a:ext cx="28080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menski test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39640" y="1268280"/>
          <a:ext cx="8229600" cy="5054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db41"/>
                          </a:solidFill>
                          <a:latin typeface="Tahoma"/>
                        </a:rPr>
                        <a:t>te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db41"/>
                          </a:solidFill>
                          <a:latin typeface="Tahoma"/>
                        </a:rPr>
                        <a:t>ma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db41"/>
                          </a:solidFill>
                          <a:latin typeface="Tahoma"/>
                        </a:rPr>
                        <a:t>d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adleht v fleksij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akrom. utesnit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awki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tefl. 90, n.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tesnitev supraspi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“</a:t>
                      </a: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op-arm test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uščanje iz abdukci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ztrganina rot. manš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orizont. ad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d. 90, a.fl.90, ad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blem v AC sklep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“</a:t>
                      </a: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pprehension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.r., abd. 90, </a:t>
                      </a: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apre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teriorna nestab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nak sulkus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lek roke navzd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eriorna nestab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rga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r fleksiji in supi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blem bicep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e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r fleksiji in supi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blem bicep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Rama:  DDg bolečine v ram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Patologija rotatorne manše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Nestabilnost (anteriorna, posteriorna, multidirekcionaln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Tendinitis bicep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vaskularna nekroza glavice humer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rtroz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Kalcinirajoči tendinitis (PHS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mpingement supraskapularnega živ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Okvara brahialnega pleksu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Brahialni nev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Nevropatska r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indrom torakalnega izho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VAJE IZ ORTOPED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KOMOLEC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molec:  gibljivos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Fleksija 0/15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8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pro- in supina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Za funkcijo potrebnih 30/130 fleksije in 50 pro- in supina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Fleksijska kontrak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Komolec:  palpacija tipičnih toč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ateralni epikond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edialni epikond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lekran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lavica radiu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Radiohumeralni skl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l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ktorna kontaktura:  Thomasov tes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krajna fleksija nasprotnega kolka obliterira lumbalno lordozo, zato se manifestira </a:t>
            </a: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flektorna kontraktura, ki jo je pacient kompenziral s povečano lumbalno lordoz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dd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ktorna kontraktura:  funkcionalno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krajš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no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bd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ktorna kontraktura:  funkcionalno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daljš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no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najpogostejša je kombinacija flektorne, adduktorne, zunanje rotatorne kontrak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mole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erjenje obsega s šiviljskim met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estiranje moč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Bice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o- in supinatorj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estiranje stabilnost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Valgus nat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Varus nat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VAJE IZ ORTOPED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ZAPESTJ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apestj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ibljivost v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:  funkcionalno fl. in ekst. po 6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ksija 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7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Ekstenzij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7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dialna deviacija 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lnarna deviacij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onacija 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upinacija 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apestj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bs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lpacij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dialnega stiloida (stiloiditis, stenozantni tendinitis de Quervai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lnarnega stiloi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Navikular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Zapestje:  utesnitev medianu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Tinelov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znak:  parestezije po perkusiji medianu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Phalenov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znak:  parestezije ob skrajni dorzifleksiji ali volarni fleksiji zapestja (držimo cca 30 sec do 1 mi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cc00"/>
                </a:solidFill>
                <a:latin typeface="Tahoma"/>
              </a:rPr>
              <a:t>VAJE IZ ORTOPED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6000" spc="-1" strike="noStrike">
                <a:solidFill>
                  <a:srgbClr val="ffcc00"/>
                </a:solidFill>
                <a:latin typeface="Tahoma"/>
              </a:rPr>
              <a:t>DLAN, PRST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lan, prst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spekcija, palpacij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Oteklina DIP, PIP, MCP; CMC sklep palca (rizartroz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eberdenovi vozlič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aleus deform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Trigger finger/thumb”:  preskakovanje in boleč pritisk na flek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ibljivost v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CP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9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IP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      1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DIP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8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lan, prst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hlapnost sklepo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tabilni v ekstenzij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Ohlapni v fleksij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Ohlapnost ulnarnega kolateralnega ligamenta CMC sklepa palca po poškodb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estiranje moč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cc00"/>
                </a:solidFill>
                <a:latin typeface="Tahoma"/>
              </a:rPr>
              <a:t>VAJE IZ ORTOPED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6000" spc="-1" strike="noStrike">
                <a:solidFill>
                  <a:srgbClr val="ffcc00"/>
                </a:solidFill>
                <a:latin typeface="Tahoma"/>
              </a:rPr>
              <a:t>GLEŽENJ, STOPAL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leženj in stopa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bs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lpacija tipičnih toč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ibljivost v zgornjem skočnem sklep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ubtalarna gibljiv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Dolžina Ahilove te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oč:  dorzifleksija, plantarna fleksija, peroneusa, postik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lec in mali prsti:  tipične deformacije, gibljiv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ibljivost v kolk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že na hrb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cient “poravnan” (medenica pravokotno na vzdolžno os ležišč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je preiskoval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ksacija meden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00720" y="3933720"/>
            <a:ext cx="25401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Obseg gležnja in palpacija 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ipičnih točk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teklina ob zvinu (primerjava D/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lpacija maleolov, sklepne špranje, narastišča Ahilove tetive, glavice 5. metatarzale, navikularke, grče petn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Gibljivost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 zgornjem/spodnjem skočnem sklepu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Dorzifleks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lantarna fleks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Ekvinus (ekvinova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Kav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aru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algus (planovalg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hilova tetiv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krajšana:  stopalo v plantarni fleksiji (ekvinusu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hompsonov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cient leži na trebuh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Ob gnetenju gastroknemiusa pride pri intaktni Ahilovi tetivi do plantarne fleksije v gležnj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Če je strgana, giba 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č mišic ob gležnj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lantarna fleks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Dorzifleks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eroneu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ostik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lec in mali prst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aluks valg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aluks rigid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Digitus flek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Digitus ma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3706560" cy="2985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492360" y="3068640"/>
            <a:ext cx="2665440" cy="3565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900000" y="3860640"/>
            <a:ext cx="161460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riferni pulzi na noga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465880" y="1628640"/>
            <a:ext cx="2954160" cy="43927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2120760" y="1628640"/>
            <a:ext cx="299592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ibljivost v kolk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9890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ks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Thomasov test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za identifikacijo flektorne kontrak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4221000"/>
            <a:ext cx="3176640" cy="2251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148360" y="1557360"/>
            <a:ext cx="32670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360" y="2852640"/>
            <a:ext cx="3394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0600"/>
                </a:solidFill>
                <a:latin typeface="Tahoma"/>
              </a:rPr>
              <a:t>NAPAČNO!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bduk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dduk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076720" y="3719520"/>
            <a:ext cx="4067280" cy="2757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Abduction Of Hip"/>
          <p:cNvPicPr/>
          <p:nvPr/>
        </p:nvPicPr>
        <p:blipFill>
          <a:blip r:embed="rId3"/>
          <a:stretch/>
        </p:blipFill>
        <p:spPr>
          <a:xfrm>
            <a:off x="5073480" y="907920"/>
            <a:ext cx="40705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l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entgenska ocena:  varus, valgus,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nteverz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valgus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oz.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varus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kolka klinično ne vidi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tudi povečane anteverzije vratu stegnenice ne vidimo, jo pa lahko ocenimo s pomočjo notranje rotac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19720" y="228600"/>
            <a:ext cx="4724280" cy="3279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427640" y="3435480"/>
            <a:ext cx="472428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7T06:41:22Z</dcterms:created>
  <dc:creator>Uporabnik</dc:creator>
  <dc:description/>
  <dc:language>en-US</dc:language>
  <cp:lastModifiedBy>SZDZO</cp:lastModifiedBy>
  <dcterms:modified xsi:type="dcterms:W3CDTF">2013-10-01T06:23:59Z</dcterms:modified>
  <cp:revision>44</cp:revision>
  <dc:subject/>
  <dc:title>VAJE IZ ORTOPEDIJE</dc:title>
</cp:coreProperties>
</file>